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82B-44AB-47A7-82E2-DD33501F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78F-2291-45B2-8236-932A250E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63B-E05A-4422-BCF4-C1890F50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A5C-D5A9-4D56-A51D-AE0611A9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FA1-F320-488A-A9F5-B03BDB7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C5A-9389-42A2-989F-03196A87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1DB-1958-404D-827E-65705A92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A33-7534-4F59-8056-2762DF0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760-68AD-407F-B7F6-823BD543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71B-0CFF-42F6-AB33-BDC00DE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697-BA02-4190-8498-7B18C09C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716-6758-4B50-8D6D-D5520B22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09E7-0388-44CD-9F7D-499427D5F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3:00:24Z</dcterms:created>
  <dc:creator>Windows User</dc:creator>
  <dc:description/>
  <dc:language>en-US</dc:language>
  <cp:lastModifiedBy>Windows User</cp:lastModifiedBy>
  <dcterms:modified xsi:type="dcterms:W3CDTF">2011-03-27T03:01:13Z</dcterms:modified>
  <cp:revision>1</cp:revision>
  <dc:subject/>
  <dc:title>This is a test</dc:title>
</cp:coreProperties>
</file>